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C8DE4DB-5E62-48F2-9E2D-688F4D4904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D5D-4E36-450E-82CA-682F6D57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F0B-826E-4E4D-9600-5E2861D8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5D8-67E1-436E-A223-0C7FF024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932-1E0A-4630-BBA4-2642D5A7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B62-1840-4842-A331-62B61B32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526-BFCF-43A3-B62B-A9D7776C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F0E-2F56-49F9-B36A-36058155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8A6-0D4F-427F-9E49-FF286FB5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1DC-7429-4201-B44C-4CD9B373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20B-6D02-41F6-A9BF-5BDC1B92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1C4-7418-4918-9E0C-E396B792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9AB-0450-4C62-9C34-C3C9DB00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4C8E-2E24-48FC-8F8A-964880BB6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fecto dir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tiv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duc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de la pobr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000 empresas nuevas y peque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ñas desarrolladas en las provincias más po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incubadoras de modelo empresarial en provincia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á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dquisi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instalaciones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pacita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rindar microcréditos pro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Enfoque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ón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1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25440" y="990720"/>
            <a:ext cx="1846080" cy="5410080"/>
            <a:chOff x="7525440" y="990720"/>
            <a:chExt cx="184608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5540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6996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42320" y="5486400"/>
              <a:ext cx="86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619760" y="3194280"/>
              <a:ext cx="165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ndic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ón colectiva de cu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Institucional/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Operacional/ destrezas, habilidades, productos y servi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  <a:ea typeface="굴림"/>
                </a:rPr>
                <a:t>¡Hu</a:t>
              </a: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mano!</a:t>
              </a: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ecto dir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mento en el empleo y la genera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n de 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Institucional/ comportamiento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ñ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46040" y="245556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46040" y="352224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38480" y="4551120"/>
            <a:ext cx="103356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03200" y="1536480"/>
            <a:ext cx="973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2-23T13:27:50Z</dcterms:modified>
  <cp:revision>6</cp:revision>
  <dc:subject/>
  <dc:title>PowerPoint Presentation</dc:title>
</cp:coreProperties>
</file>